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jpeg" ContentType="image/jpeg"/>
  <Override PartName="/ppt/media/image4.jpeg" ContentType="image/jpeg"/>
  <Override PartName="/ppt/media/image5.png" ContentType="image/png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0229C-5B06-4CDD-8D31-94755A918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ACF6B-FE2B-416E-8D2B-262B0FC82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63C2-20BD-4ACA-B1E0-381CC437D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E506-2BB4-4D28-B677-FC03290BB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01AAC-2AFF-4866-8896-C4351095B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F780-998F-4CF4-9048-C45DDF2A1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51CF-1F80-4FED-9495-BDA3943D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F29C6-631B-47F2-B148-FE245787C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9AD8-82A1-40BC-BAD0-1EA11431C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FDAE-3F00-441F-8A8D-1DF05B2D8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0B50-A473-4AF9-9004-398B24D7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7961-5663-42A9-9CE9-DE3C85918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A7195-6E95-4AB6-9693-CE3A54A34430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"/>
          <p:cNvPicPr/>
          <p:nvPr/>
        </p:nvPicPr>
        <p:blipFill>
          <a:blip r:embed="rId1"/>
          <a:stretch/>
        </p:blipFill>
        <p:spPr>
          <a:xfrm>
            <a:off x="1187280" y="5805360"/>
            <a:ext cx="7056720" cy="768600"/>
          </a:xfrm>
          <a:prstGeom prst="rect">
            <a:avLst/>
          </a:prstGeom>
          <a:ln w="0">
            <a:noFill/>
          </a:ln>
        </p:spPr>
      </p:pic>
      <p:sp>
        <p:nvSpPr>
          <p:cNvPr id="42" name="Nadpis 1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BP Stavebnictví 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1" descr="DS_RGB"/>
          <p:cNvPicPr/>
          <p:nvPr/>
        </p:nvPicPr>
        <p:blipFill>
          <a:blip r:embed="rId2"/>
          <a:stretch/>
        </p:blipFill>
        <p:spPr>
          <a:xfrm>
            <a:off x="179280" y="198900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12"/>
          <p:cNvSpPr/>
          <p:nvPr/>
        </p:nvSpPr>
        <p:spPr>
          <a:xfrm>
            <a:off x="2700360" y="1413000"/>
            <a:ext cx="6443640" cy="365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17.6.2015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ávěrečná konference projektu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SPOLEČNÝM POSTUPEM SOCIÁLNÍCH PARTNERŮ K PŘÍPRAVĚ ODVĚTVÍ NA ZMĚNY DŮCHODOVÉHO SYSTÉMU – ETAPA 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lista_CMYK"/>
          <p:cNvPicPr/>
          <p:nvPr/>
        </p:nvPicPr>
        <p:blipFill>
          <a:blip r:embed="rId1"/>
          <a:stretch/>
        </p:blipFill>
        <p:spPr>
          <a:xfrm>
            <a:off x="1116000" y="5805360"/>
            <a:ext cx="7775640" cy="74772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3"/>
          <p:cNvSpPr/>
          <p:nvPr/>
        </p:nvSpPr>
        <p:spPr>
          <a:xfrm>
            <a:off x="324000" y="1197000"/>
            <a:ext cx="8642160" cy="35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A 5 - Přípravná fáze pro realizaci sociálního audi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tanovení vzorku firem, na kterých bude proveden odvětvový sociální audit - odborně vytvořený representativní vzorek za odvě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Byl vybrán vzorek firem, se kterými bude SPS a OS Stavba spolupracovat ve 2. etapě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Hochtief Pr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urovia Pr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Energie Klad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etrostav Prah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HL ŽS Brno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Nadpis 1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BP Stavebnictví 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lista_CMYK"/>
          <p:cNvPicPr/>
          <p:nvPr/>
        </p:nvPicPr>
        <p:blipFill>
          <a:blip r:embed="rId1"/>
          <a:stretch/>
        </p:blipFill>
        <p:spPr>
          <a:xfrm>
            <a:off x="1116000" y="5805360"/>
            <a:ext cx="7775640" cy="74772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3"/>
          <p:cNvSpPr/>
          <p:nvPr/>
        </p:nvSpPr>
        <p:spPr>
          <a:xfrm>
            <a:off x="324000" y="1197000"/>
            <a:ext cx="8642160" cy="45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KA 5 - Přípravná fáze pro realizaci sociálního audi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Zmapování dobré praxe v oblasti práce s cílovou skupinou na téma důchodové systémy v zahranič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celkem využity informace od 10 zahraničních partner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pracováno 18 bodů – otázek k dané problemat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slání, vyhodnocení zaslaných odpovědí, zpracování souhrnných celkových závěrů a přehledů obsaženo v materiálu „ZMAPOVÁNÍ DOBRÉ PRAXE V ZAHRANIČÍ NA TÉMA DŮCHODOVÉ REFORMY“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říprava odvětví stavebnictví je v členských zemích nejednotná, nejlepší Německo, Rakous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hlavní cesty k řešení: doškolování a změny kvalifikace, převod na méně namáhavou práci, co nejširší a nejrozmanitější formy dalších důchodových pilířů, zdroje – vlády, firmy, zaměstnanc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ráce ve stavebnictví do 67 let - situace je považována za nereálno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a reálné je považován odchod do důchodu 3 - 4 roky před zákonem schváleným důchodovým věkem, pro stavebnictví jsou pak vytvářeny překlenovací finanční fond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změny jsou provázeny nabídkou celoživotního vzdělávání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existují duální penzijní systémy – státní důchod + další příspěvek, ovlivněný příjmy zaměst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obecně nastává ve stavebnictví nedostatek zkušených a kvalifikovaných pracovníků – i s ohledem na zvyšování nároků na profese, předpokládá se řešení přísunem zahraničních pracovníků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Nadpis 1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BP Stavebnictví 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lista_CMYK"/>
          <p:cNvPicPr/>
          <p:nvPr/>
        </p:nvPicPr>
        <p:blipFill>
          <a:blip r:embed="rId1"/>
          <a:stretch/>
        </p:blipFill>
        <p:spPr>
          <a:xfrm>
            <a:off x="1116000" y="5805360"/>
            <a:ext cx="7775640" cy="74772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3"/>
          <p:cNvSpPr/>
          <p:nvPr/>
        </p:nvSpPr>
        <p:spPr>
          <a:xfrm>
            <a:off x="179280" y="2637000"/>
            <a:ext cx="8642520" cy="268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 6 - Zpracování Demografické prognózy v dlouhodobém horizontu (20 let)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- Vytvoření Prognózy zaměstnanosti v odvětví stavebnictví do roku 203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plněné cíle 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ajištění kvalitních relevantních dat (demografická prognóza) za odvětví pro další práci s CS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Nadpis 1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BP Stavebnictví 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Nadpis 1"/>
          <p:cNvSpPr/>
          <p:nvPr/>
        </p:nvSpPr>
        <p:spPr>
          <a:xfrm>
            <a:off x="179280" y="1197000"/>
            <a:ext cx="878544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000000"/>
                </a:solidFill>
                <a:uFillTx/>
                <a:latin typeface="Arial"/>
              </a:rPr>
              <a:t>Klíčové Aktivity projektu a hlavní cíle Klíčových Aktiv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lista_CMYK"/>
          <p:cNvPicPr/>
          <p:nvPr/>
        </p:nvPicPr>
        <p:blipFill>
          <a:blip r:embed="rId1"/>
          <a:stretch/>
        </p:blipFill>
        <p:spPr>
          <a:xfrm>
            <a:off x="1116000" y="5805360"/>
            <a:ext cx="7775640" cy="7477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3"/>
          <p:cNvSpPr/>
          <p:nvPr/>
        </p:nvSpPr>
        <p:spPr>
          <a:xfrm>
            <a:off x="179280" y="1628640"/>
            <a:ext cx="86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 6 - Zpracování Demografické prognó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 dlouhodobém horizontu (20 le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Nadpis 1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BP Stavebnictví 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6"/>
          <p:cNvSpPr/>
          <p:nvPr/>
        </p:nvSpPr>
        <p:spPr>
          <a:xfrm>
            <a:off x="108000" y="2349360"/>
            <a:ext cx="86421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brané profese CZ-ISCO pro Prognózu zaměstnanosti v odvětví stavebnictví do roku 20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"/>
          <p:cNvPicPr/>
          <p:nvPr/>
        </p:nvPicPr>
        <p:blipFill>
          <a:blip r:embed="rId2"/>
          <a:stretch/>
        </p:blipFill>
        <p:spPr>
          <a:xfrm>
            <a:off x="395280" y="3213000"/>
            <a:ext cx="8137440" cy="22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lista_CMYK"/>
          <p:cNvPicPr/>
          <p:nvPr/>
        </p:nvPicPr>
        <p:blipFill>
          <a:blip r:embed="rId1"/>
          <a:stretch/>
        </p:blipFill>
        <p:spPr>
          <a:xfrm>
            <a:off x="1116000" y="5805360"/>
            <a:ext cx="7775640" cy="74772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3"/>
          <p:cNvSpPr/>
          <p:nvPr/>
        </p:nvSpPr>
        <p:spPr>
          <a:xfrm>
            <a:off x="324000" y="1197000"/>
            <a:ext cx="864216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 6 - Zpracování Demografické prognó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 dlouhodobém horizontu (20 le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rognóza zaměstnanosti v odvětví stavebnictví do roku 20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Rekapitulace ohrožených profesí a jejich rozdělení mezi Stavebnictví 1 a Stavebnictví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tavebnictví 1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bude sledovat profese, zastoupené především v Hlavní stavební výrobě (HSV): zedník, montér suchých staveb – skupina 7122 a skupinu 7119 - ostatní kvalifikovaní pracovníci a řemeslníci HSV – lešenář, montér výplní stavebních otvorů, stavební montážník, výškový specialist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tavebnictví 2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  pak bude sledovat profese, zastoupené především v pomocné stavební výrobě (PSV – řemesla, cechy), skupiny 7126, 7122, 7131, 7115, 712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Nadpis 1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BP Stavebnictví 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lista_CMYK"/>
          <p:cNvPicPr/>
          <p:nvPr/>
        </p:nvPicPr>
        <p:blipFill>
          <a:blip r:embed="rId1"/>
          <a:stretch/>
        </p:blipFill>
        <p:spPr>
          <a:xfrm>
            <a:off x="1116000" y="5805360"/>
            <a:ext cx="7775640" cy="74772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324000" y="1197000"/>
            <a:ext cx="8642160" cy="44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 6 - Zpracování Demografické prognóz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v dlouhodobém horizontu (20 le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rognóza zaměstnanosti v odvětví stavebnictví do roku 20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Demografická prognóza potvrdila, že s prodlužujícím se věkem do důchodu bude nezbytné vytvořit vhodné podmínky pro starší zaměstnance – např. vzdělávání kvalifikovaných dělníků na mist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Nejčetnější skupina obyvatel se do roku 2033 posune z dnešních 35 let na 55 le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Průměrný věk pracovníků ve stavebnictví je o 1,5 roku vyšší ve v celé ČR, rozdíl se zvyšuje, stavebnictví bude demografickým vývojem postiženo více než ostatní odvětví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Ve stavebnictví pracuje 92 % mužů z celkového počtu zaměstnanců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Do roku 2033 se ztrojnásobí podíl pracovníků ve stavebnictví starších 65 let - stavebnictví bude dále stárnou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000000"/>
                </a:solidFill>
                <a:latin typeface="Arial"/>
              </a:rPr>
              <a:t>Výsledek vyústil ve stanovení 5 vybraných profesí + tabulka z dem. prognózy č. 9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Nadpis 1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BP Stavebnictví 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4360" y="1196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Děkuji za pozorn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403280" y="2781360"/>
            <a:ext cx="64008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Ing. Bohuslav Štancl, MB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BP Stavebnictví I. - Specialista pro vedení sociálního dialogu a problematiku důchodového systému za stranu zaměstnavatel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lista_CMYK"/>
          <p:cNvPicPr/>
          <p:nvPr/>
        </p:nvPicPr>
        <p:blipFill>
          <a:blip r:embed="rId1"/>
          <a:stretch/>
        </p:blipFill>
        <p:spPr>
          <a:xfrm>
            <a:off x="1116000" y="5805360"/>
            <a:ext cx="7775640" cy="7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lista_CMYK"/>
          <p:cNvPicPr/>
          <p:nvPr/>
        </p:nvPicPr>
        <p:blipFill>
          <a:blip r:embed="rId1"/>
          <a:stretch/>
        </p:blipFill>
        <p:spPr>
          <a:xfrm>
            <a:off x="1116000" y="5805360"/>
            <a:ext cx="7775640" cy="74772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6"/>
          <p:cNvSpPr/>
          <p:nvPr/>
        </p:nvSpPr>
        <p:spPr>
          <a:xfrm rot="2331600">
            <a:off x="1979280" y="1125360"/>
            <a:ext cx="757080" cy="1965600"/>
          </a:xfrm>
          <a:prstGeom prst="downArrow">
            <a:avLst>
              <a:gd name="adj1" fmla="val 50000"/>
              <a:gd name="adj2" fmla="val 6490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7"/>
          <p:cNvSpPr/>
          <p:nvPr/>
        </p:nvSpPr>
        <p:spPr>
          <a:xfrm rot="19336800">
            <a:off x="6084720" y="1125000"/>
            <a:ext cx="757440" cy="1965600"/>
          </a:xfrm>
          <a:prstGeom prst="downArrow">
            <a:avLst>
              <a:gd name="adj1" fmla="val 50000"/>
              <a:gd name="adj2" fmla="val 64876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0" descr="SPS-CZ_1_n"/>
          <p:cNvPicPr/>
          <p:nvPr/>
        </p:nvPicPr>
        <p:blipFill>
          <a:blip r:embed="rId2"/>
          <a:stretch/>
        </p:blipFill>
        <p:spPr>
          <a:xfrm>
            <a:off x="826920" y="3357720"/>
            <a:ext cx="2857680" cy="1533240"/>
          </a:xfrm>
          <a:prstGeom prst="rect">
            <a:avLst/>
          </a:prstGeom>
          <a:ln w="0">
            <a:noFill/>
          </a:ln>
        </p:spPr>
      </p:pic>
      <p:sp>
        <p:nvSpPr>
          <p:cNvPr id="49" name="Nadpis 1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BP Stavebnictví 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6" descr="logo_facebook_05_2011"/>
          <p:cNvPicPr/>
          <p:nvPr/>
        </p:nvPicPr>
        <p:blipFill>
          <a:blip r:embed="rId3"/>
          <a:stretch/>
        </p:blipFill>
        <p:spPr>
          <a:xfrm>
            <a:off x="6084720" y="3068640"/>
            <a:ext cx="1962360" cy="2381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lista_CMYK"/>
          <p:cNvPicPr/>
          <p:nvPr/>
        </p:nvPicPr>
        <p:blipFill>
          <a:blip r:embed="rId1"/>
          <a:stretch/>
        </p:blipFill>
        <p:spPr>
          <a:xfrm>
            <a:off x="1116000" y="5805360"/>
            <a:ext cx="7775640" cy="74772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3"/>
          <p:cNvSpPr/>
          <p:nvPr/>
        </p:nvSpPr>
        <p:spPr>
          <a:xfrm>
            <a:off x="250920" y="2060640"/>
            <a:ext cx="8642160" cy="328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i našich konferencích jsme ocenili významný podíl KZPS ČR na úspěšném průběhu a ukončení 1. etap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jektu, zejména prezidenta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KZPS ČR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Jana Wiesne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ředkládané výsledky by nebyly možné bez osobní angažovanosti předsedy OS Stanislava Antoniva a prezidenta Svazu podnikatelů ve stavebnictví v ČR ing. Václava Matyáše a zkušených realizačních týmů odborníků obou partner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byla dobrá spolupráce i mezi platformami Stavebnictví 1 a Stavebnictví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ošlo k vytvoření informačního prostředí a nástrojů pro zajištění připravenosti cílové skupiny na změny v důchodovém systému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zjištěné informace, názory realizačních týmů a zejména názory a návrhy účastníků strukturovaných rozhovorů, informačních seminářů a konferencí přinesly rozsáhlou škálu možných řešení a v příležitost je v další etapě projektu využít pro model platný pro Českou republiku, neboť podle zjištění není možné jej tvořit pro celou Evropskou Unii jednotn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Nadpis 1"/>
          <p:cNvSpPr/>
          <p:nvPr/>
        </p:nvSpPr>
        <p:spPr>
          <a:xfrm>
            <a:off x="179280" y="1197000"/>
            <a:ext cx="8785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Úvodem: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Nadpis 1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BP Stavebnictví 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lista_CMYK"/>
          <p:cNvPicPr/>
          <p:nvPr/>
        </p:nvPicPr>
        <p:blipFill>
          <a:blip r:embed="rId1"/>
          <a:stretch/>
        </p:blipFill>
        <p:spPr>
          <a:xfrm>
            <a:off x="1116000" y="5805360"/>
            <a:ext cx="7775640" cy="74772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3"/>
          <p:cNvSpPr/>
          <p:nvPr/>
        </p:nvSpPr>
        <p:spPr>
          <a:xfrm>
            <a:off x="324000" y="2133720"/>
            <a:ext cx="864216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dlouhodobě neudržitelná nerovnováha příjmů – odvodů a výdajů – důchodů – fiskální nerovnová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a řešení se budou podílet 3 skupiny obyvatel: zaměstnavatelé (firmy soukromé i státní, státní správa), zaměstnanci a důchodci (kdo ponese důsledk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roces, kterým důchodová reforma je,  bude vytvářet stát – politici, státní správa, odbory a podnikatelé – triparti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 tímto vědomím sílí a roste význam projektu, který zpracováváme, neboť problémy s pracovníky, kteří s ohledem na věk, zdravotní stav, neochotu se dále vzdělávat, případně dále cestovat po stavbách již ve významné míře existu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ideální by bylo najít vyvážené a racionální řešení, které by fungovalo dlouhodobě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my budeme prosazovat zachování konkurenceschopnosti našich podnikatelských subjektů – nezvyšovat cenu práce, posílit princip odpovědnosti a zásluhovosti občanů – musíme však umět formulovat naše cí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cíle jsme hledali v průběhu konání strukturovaných rozhovor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Nadpis 1"/>
          <p:cNvSpPr/>
          <p:nvPr/>
        </p:nvSpPr>
        <p:spPr>
          <a:xfrm>
            <a:off x="179280" y="1197000"/>
            <a:ext cx="8785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 u="sng">
                <a:solidFill>
                  <a:srgbClr val="000000"/>
                </a:solidFill>
                <a:uFillTx/>
                <a:latin typeface="Arial"/>
              </a:rPr>
              <a:t>Výchozí stav: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Nadpis 1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BP Stavebnictví 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lista_CMYK"/>
          <p:cNvPicPr/>
          <p:nvPr/>
        </p:nvPicPr>
        <p:blipFill>
          <a:blip r:embed="rId1"/>
          <a:stretch/>
        </p:blipFill>
        <p:spPr>
          <a:xfrm>
            <a:off x="1116000" y="5805360"/>
            <a:ext cx="7775640" cy="74772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3"/>
          <p:cNvSpPr/>
          <p:nvPr/>
        </p:nvSpPr>
        <p:spPr>
          <a:xfrm>
            <a:off x="324000" y="2133720"/>
            <a:ext cx="8642160" cy="356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 č. 3 – Vytvoření informačního prostředí a nástrojů pro zajištění připravenosti cílové skupiny na změny v důchodovém systému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(Semináře, strukturované/řízené rozhovor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50 informačních seminářů pro 750 účastníků pro oba sociální partn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dení strukturovaných/řízených rozhovorů s vybranými účastníky seminář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000000"/>
                </a:solidFill>
                <a:uFillTx/>
                <a:latin typeface="Arial"/>
              </a:rPr>
              <a:t>Splněné cíle K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ošlo k vytvoření informačního prostředí a nástrojů pro zajištění připravenosti cílové skupiny na změny v důchodovém systé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Nadpis 1"/>
          <p:cNvSpPr/>
          <p:nvPr/>
        </p:nvSpPr>
        <p:spPr>
          <a:xfrm>
            <a:off x="179280" y="1197000"/>
            <a:ext cx="878544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000000"/>
                </a:solidFill>
                <a:uFillTx/>
                <a:latin typeface="Arial"/>
              </a:rPr>
              <a:t>Klíčové Aktivity projektu a hlavní cíle Klíčových Aktiv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Nadpis 1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BP Stavebnictví 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lista_CMYK"/>
          <p:cNvPicPr/>
          <p:nvPr/>
        </p:nvPicPr>
        <p:blipFill>
          <a:blip r:embed="rId1"/>
          <a:stretch/>
        </p:blipFill>
        <p:spPr>
          <a:xfrm>
            <a:off x="1116000" y="5805360"/>
            <a:ext cx="7775640" cy="74772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3"/>
          <p:cNvSpPr/>
          <p:nvPr/>
        </p:nvSpPr>
        <p:spPr>
          <a:xfrm>
            <a:off x="179280" y="1197000"/>
            <a:ext cx="8786880" cy="45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000000"/>
                </a:solidFill>
                <a:latin typeface="Arial"/>
              </a:rPr>
              <a:t>KA č. 3 – Vytvoření informačního prostředí a nástrojů pro zajištění připravenosti cílové skupiny na změny v důchodovém systému (Semináře, strukturované/řízené rozhovory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uskutečnilo se 25 informačních seminářů za stranu zaměstnanců a 25 za stranu zaměstnavatel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bylo provedeno 19 strukturovaných rozhovorů za stranu zaměstnavatelů a 12 za stranu zaměstnanc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a seminářích se projevila malá informovanost účastníků o problémech – významně přispěly k odstranění tohoto   nedostatk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účastníci přivítali informace o cílech projektu, jeho šíři a hloubce, zajímali se možná řešení, která vyplývají z prodlužování věku odchodu do důcho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jednoznačně podporovali záměr vlády, „zastropovat“ výši věku odchodu do důchodu tak, aby odpovídala stupni vyspělosti české společno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stejně tak jednoznačně podporovali významný podíl vládních výdajů a evropských fondů na  řešení vybraných pracovních poz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kriticky se vyjadřovali k opatřením vlády Petra Nečase v této obla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espondenti strukturovaných rozhovorů byli vybíráni ze širokého spektra profesí stavebních organizac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espondenti zpochybňovali smysl prodlužování věku odchodu do důchod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 odpovědí vyplývá, ze organizace budou řešit dopady změn důchodového systému v době, kdy budou aktuální, náklady na řešení budou neproduktivní a nelze je zatím odhadn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o provedené definici rizikových profesí budou následovat návrhy změn pracovního režimu, změn pracovního prostředí a změn pracovních nástrojů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zatímco zaměstnanci by podporovali účast zaměstnavatelských organizací na úhradě nákladů projektu, u zástupců těchto organizací byl tento názor ojedinělý, obdobně se lišila stanoviska stran na zapojení firmy do projekt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téměř všichni respondenti hodnotili dotazník jako příliš obecný, zajímali se, proč jeho podoba nebyla předem konzultována s řešitelskými tým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Nadpis 1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BP Stavebnictví 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lista_CMYK"/>
          <p:cNvPicPr/>
          <p:nvPr/>
        </p:nvPicPr>
        <p:blipFill>
          <a:blip r:embed="rId1"/>
          <a:stretch/>
        </p:blipFill>
        <p:spPr>
          <a:xfrm>
            <a:off x="1116000" y="5805360"/>
            <a:ext cx="7775640" cy="7477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3"/>
          <p:cNvSpPr/>
          <p:nvPr/>
        </p:nvSpPr>
        <p:spPr>
          <a:xfrm>
            <a:off x="250920" y="2205000"/>
            <a:ext cx="8893080" cy="347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 č. 4 –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enos informací, poznatků a podnětů z práce s cílovou skupinou formou konferen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x jednodenní konference na té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Vytvoření informačního prostředí a nástrojů pro zajištění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připravenosti cílové skupiny na změny v důchodovém systé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1x jednodenní konference na tém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Výsledky a závěry prognózy zaměstnanosti v odvětví stavebnictví do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roku 2033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plněné cíle 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Realizované 2 konference BP Stavebnictví I., kde došlo k přenos informací, poznatků a podnětů z práce s cílovou skupin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Nadpis 1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BP Stavebnictví 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Nadpis 1"/>
          <p:cNvSpPr/>
          <p:nvPr/>
        </p:nvSpPr>
        <p:spPr>
          <a:xfrm>
            <a:off x="179280" y="1197000"/>
            <a:ext cx="878544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000000"/>
                </a:solidFill>
                <a:uFillTx/>
                <a:latin typeface="Arial"/>
              </a:rPr>
              <a:t>Klíčové Aktivity projektu a hlavní cíle Klíčových Aktiv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lista_CMYK"/>
          <p:cNvPicPr/>
          <p:nvPr/>
        </p:nvPicPr>
        <p:blipFill>
          <a:blip r:embed="rId1"/>
          <a:stretch/>
        </p:blipFill>
        <p:spPr>
          <a:xfrm>
            <a:off x="1116000" y="5805360"/>
            <a:ext cx="7775640" cy="74772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3"/>
          <p:cNvSpPr/>
          <p:nvPr/>
        </p:nvSpPr>
        <p:spPr>
          <a:xfrm>
            <a:off x="324000" y="1197000"/>
            <a:ext cx="8642160" cy="41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 č. 4 – Přenos informací, poznatků a podnětů z práce s cílovou skupinou formou konferenc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Cesty k řešení - náměty z diskusí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ociální klid by mohl zajisti např. rovný důchod, umožňující udržení sociální důstojnosti důchodců (místo dnešních 2 200,- Kč např. 8000,- Kč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princip zásluhovosti a odpovědnosti občanů by mohl být vyjádřen např. individuálními účty, které by zohlednily délku zaměstnání a výši příjm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ystém by mohl zahrnovat i existenci veřejných i podnikových penzijních fondů, připojištění ať už povinné nebo dobrovolné, podnikové nebo individuál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ystém by měl dostatek možností postihnout odvětvové, věkové i individuální odlišnosti, síla by byla v jeho pestrosti a variabilitě, kromě státního by umožňoval i participaci soukromého kapitálu – příležitost, aby si každý mohl ušít svůj důchod „na tělo“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 systému by byla zakódována i řešení, která budeme v další etapě projektu hled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Nadpis 1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BP Stavebnictví 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lista_CMYK"/>
          <p:cNvPicPr/>
          <p:nvPr/>
        </p:nvPicPr>
        <p:blipFill>
          <a:blip r:embed="rId1"/>
          <a:stretch/>
        </p:blipFill>
        <p:spPr>
          <a:xfrm>
            <a:off x="1116000" y="5805360"/>
            <a:ext cx="7775640" cy="74772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3"/>
          <p:cNvSpPr/>
          <p:nvPr/>
        </p:nvSpPr>
        <p:spPr>
          <a:xfrm>
            <a:off x="250920" y="2421000"/>
            <a:ext cx="8642160" cy="33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A 5 - Přípravná fáze pro realizaci sociálního audi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anovení vzorku firem, na kterých bude proveden odvětvový sociální    audit – odborně vytvořený representativní vzorek za odvě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Zmapování dobré praxe v oblasti práce s cílovou skupinou na téma důchodové systémy v zahranič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Splněné cíle K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a základě kvalitních vstupních informací byl stanoven vzorek firem reprezentující dané odvětví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yl vypracován odborný posudek: Zmapování dobré praxe v zahraničí na téma důchodové refor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Nadpis 1"/>
          <p:cNvSpPr/>
          <p:nvPr/>
        </p:nvSpPr>
        <p:spPr>
          <a:xfrm>
            <a:off x="0" y="0"/>
            <a:ext cx="9144000" cy="1197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BP Stavebnictví I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Nadpis 1"/>
          <p:cNvSpPr/>
          <p:nvPr/>
        </p:nvSpPr>
        <p:spPr>
          <a:xfrm>
            <a:off x="179280" y="1197000"/>
            <a:ext cx="8785440" cy="99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 u="sng">
                <a:solidFill>
                  <a:srgbClr val="000000"/>
                </a:solidFill>
                <a:uFillTx/>
                <a:latin typeface="Arial"/>
              </a:rPr>
              <a:t>Klíčové Aktivity projektu a hlavní cíle Klíčových Aktiv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9T10:20:01Z</dcterms:created>
  <dc:creator>Institut SPS</dc:creator>
  <dc:description/>
  <dc:language>en-US</dc:language>
  <cp:lastModifiedBy>Institut SPS</cp:lastModifiedBy>
  <dcterms:modified xsi:type="dcterms:W3CDTF">2015-06-16T14:22:31Z</dcterms:modified>
  <cp:revision>78</cp:revision>
  <dc:subject/>
  <dc:title>Snímek 1</dc:title>
</cp:coreProperties>
</file>